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28E-FEA8-4975-A332-E39D543B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DB4-CD6A-4229-AF62-A82FFDCD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A34-1627-4D37-A574-A586C703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A31-8471-4F25-A88F-16A4DD5F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53A-4930-4D01-898A-3B6128AD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23A-5445-4463-8AC1-979C60BE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F08-BC8E-4355-9504-E6B1BD16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7C7-E78A-4A24-8CA5-2C34C67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9AB-CFC5-48CA-80DF-2CAD908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328-E337-4FAE-BDF7-0ADDCF57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B31-58E3-49A6-9A5C-97599360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11E-6585-4F6D-A162-942B1088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601-4A98-47C6-8AA7-3E700E3EE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388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nas o que é adequado pode ser necessário, mas o que é necessário não pode ser inadequado”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. Gilmar Men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bmdf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1295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057400" y="0"/>
          <a:ext cx="541008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0"/>
                    <a:ext cx="54100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154240" y="90360"/>
          <a:ext cx="4925880" cy="659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4240" y="90360"/>
                    <a:ext cx="492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73160" y="390600"/>
          <a:ext cx="7226280" cy="57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390600"/>
                    <a:ext cx="722628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17600" y="79200"/>
          <a:ext cx="4665960" cy="669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7600" y="79200"/>
                    <a:ext cx="4665960" cy="66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52280"/>
            <a:ext cx="899172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O 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SBM/1 Simão Bacamarte, Matr. 03150-X, lotado na 1ª CRI-Asa Sul, se apresentou para a assunção do serviço na escala de motorista da Viatura Prefixo UTE 266, as 8h00, com o uniforme sujo, cabelo grande e barba por faz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NECESSÁ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olar Testemunh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ícia do fa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grafar o milit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 que é presunção de legitimidade ou de legalidade do ato administrativo?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320" y="152280"/>
            <a:ext cx="899136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O 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SBM/1 </a:t>
            </a:r>
            <a:r>
              <a:rPr b="1" i="1" lang="pt-BR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m Quichote</a:t>
            </a:r>
            <a:r>
              <a:rPr b="1" lang="pt-B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tr. 06390-X, lotado na 10ª CRI – Paranoá, de folga no dia 01 de maio de 2007, estava no Bar Das Três Irmãs, na </a:t>
            </a:r>
            <a:r>
              <a:rPr b="1" lang="pt-BR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idade de Águas Lindas-GO</a:t>
            </a:r>
            <a:r>
              <a:rPr b="1" lang="pt-B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ocasião que havia ingerido algumas cervejas e outras bebidas, se recusando a pagar a conta por não concordar com os preços das “mercadorias”. A proprietária solicitou apoio policial. De imediato chegou ao local uma guarnição composta por três policiais. O SBM/1, procurando intimidar os policiais, fez uso de sua identidade funcional. Incontinente, o SBM/1 foi abordado, algemado e conduzido à circunscricional da área, sob a acusação de desacato, resistência e desobediênc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 de Testemunhas: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20" y="152280"/>
            <a:ext cx="8991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bmdf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2314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60480"/>
            <a:ext cx="82296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Á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indicâ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Proced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Prin. da Pres. do Estado de Inocê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ontraditório e Ampla Def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Justa Cau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Princípio da Proporcional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ORMAS OU ESPÉCIES DE SINDICÂ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UXOGRAMA SIND. ORDINÁ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UXOGRAMA SIND. SUMÁ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UXOGRAMA RECU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EMPLOS DE NOTÍ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0"/>
            <a:ext cx="82296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DICÂ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o procedimento investigativo, com prazo de conclusão que não excederá 30 ou 12 dias (prorrogáveis pela autoridade por igual período), ao cabo do qual, a conclusão deve ser pelo arquivamento do processo ou pela aplicação de penalidade de advertência até a prisão disciplinar de 30 dias, ou a instauração do Processo Disciplinar, assegurada ampla defesa. Referência com adaptações. (Celso Antonio Bandeira de Melo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so de Direito Administrativ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ão Paulo: Malheiros. 12ª.ed. 2000. p. 290). STF – RMS 22.789-7 – Rio de Janeiro, 1ª T. Rel. Min. Moreira Alves, j. 04/05/99, DJ de 25/06/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82296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o conjunto de formalidades que devem ser observadas para a prática de certos atos administrativos; equivale a rito, a forma de proceder; o procedimento se desenvolve dentro de um processo administrativo – Maria Sylvia Zanella Di Pietro. </a:t>
            </a:r>
            <a:r>
              <a:rPr b="0" i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Administrativ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ão Paulo: 13ª. e. Atlas. 2001, p. 494.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04920"/>
            <a:ext cx="82296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ÍPIO DA PRESUNÇÃO DE INOCÊNCIA OU DA NÃO-CULPABILIDA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O princípio constitucional da não-culpabilidade, em nosso sistema jurídico, consagra uma regra de tratamento que impede o Poder Público de agir e de se comportar, em relação ao suspeito, ao indiciado, ao denunciado ou ao réu, como se estes já houvessem sido condenados, definitivamente, por sentença do Poder Judiciário”. Referência, STF - HC 89501/GO – Relator: Min. Celso de Melo, Julg. 12/12/2006 – 2ª Turma.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04920"/>
            <a:ext cx="822960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RAS SOBRE CONTRADITÓRIO E AMPLA DEF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ª) – Direito de informação dos atos praticados no processo e sobre os elementos dele constante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ª) – Direito de manifestação – oralmente ou por escrito sobre os elementos fáticos e jurídicos constantes do processo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ª) – Direito de ver seus argumentos considerados.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F, 2ª T., RE-AgR 426147-TO, Rel. </a:t>
            </a:r>
            <a:r>
              <a:rPr b="1" lang="pt-B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. Gilmar Mendes – DJU 5.5.2006 e Parecer Nº 575/2006 – PROCAD/PGDR – Proc. Leandro Zannoni  A. de Alencar – DODF nº 226 – 27.11.2006. P. 132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0480"/>
            <a:ext cx="8229600" cy="67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A CAU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 </a:t>
            </a:r>
            <a:r>
              <a:rPr b="1" lang="pt-BR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encadeamento da Sindicância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necessário que a noticia ou a representação esteja minimamente embasada em provas ou, ao menos, em indícios de efetiva ocorrência dos fatos. Não basta que aquela se limite a narrar fatos e circunstâncias delituosas que são atribuídas ao administrado, sob o risco de se admitir a instauração temerária, em desrespeito às regras do indiciamento e ao princípio da presunção de inocência. (Referência com adaptações, STF - Inq 2033/DF, Relator: Min. Nelson Jobim, Julg. 15/06/2004 – Pleno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76320"/>
            <a:ext cx="8915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ÍPIO DA PROPORCIONALIDADE –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ementos Integradores (medidas restritiv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– Adequação ou idoneidade – meio-fim da medida leg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– Necessidade ou exigibilidade – refere-se a menor restrição possí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– Proporcionalidade em sentido estrito – indica se o meio utilizado encontra-se em razoável proporção com o fim perseguido (ponderação de bens). (CF. Arts. 1º, III; 3º, III; 5º,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ut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I, XXXV, LIV e seus §§ 1º e 2º; 60, § 4º, IV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ência: Suzana de Toledo Barros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 Princípio da  Proporcionalidade. Brasília: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sília Jurídica. 2ª. 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52280"/>
            <a:ext cx="8686800" cy="63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S OU ESPÉCIES DE SINDICÂNCIA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ª)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DICÂNCIA INQUISITÓRIA OU INVESTIGATÓRI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rt. 6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ª)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DICÂNCIA SUMÁRI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 D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NA COMPLEXIDADE OU PUNITIV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rt. 13, § 1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ª)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DICÂNCIA ORDINÁRIA OU PUNITIV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rt. 17 e seg. da Portaria Nº 20/200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ª)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DICÂNCIA SUMÁRIA – FARDAMENT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ortaria Nº 1, de 5 de janeiro de 2004, Boletim Geral Nº 003, de 07 de janeiro de 2004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ª)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RAÇÃO DE TRÂNSI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ência: Léo da Silva Alve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tões relevantes da sindicância e do processo disciplinar. Brasília: Brasília Jurídica. 1999. p. 48-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5:27:50Z</dcterms:created>
  <dc:creator>basilio</dc:creator>
  <dc:description/>
  <dc:language>en-US</dc:language>
  <cp:lastModifiedBy>basilio</cp:lastModifiedBy>
  <dcterms:modified xsi:type="dcterms:W3CDTF">2007-05-10T13:02:13Z</dcterms:modified>
  <cp:revision>28</cp:revision>
  <dc:subject/>
  <dc:title>Apresentação do PowerPoint</dc:title>
</cp:coreProperties>
</file>